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4B46-24F3-45E5-A72C-BE5EF0E4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0E37-266C-40B6-96B5-18C11C820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C14-482C-4419-8507-6E14DBA4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D22-FC79-4AF0-AD19-F927A708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100-8774-4ED5-B6DF-C97B6386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978-1253-4DDF-ACD6-654B5895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772-C9B7-4A65-A07B-8C4C543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5D0-1D6D-41DC-AA5A-4629B90F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EC6-CC71-4A43-B9E0-42B25D01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9F3-AA4F-45D0-BF4F-ACFD1A9B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59E-BC9F-4E19-9342-9FC54364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7C5-1017-48C8-A87C-5DD3FF8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6D0-EC4B-4245-9D84-A8360C8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CFC-CA38-4F42-B221-15F36C2B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48B1-3F6F-4F10-9EA5-0B8217898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7785000" cy="1481040"/>
          </a:xfrm>
          <a:prstGeom prst="rect">
            <a:avLst/>
          </a:prstGeom>
          <a:ln w="0">
            <a:noFill/>
          </a:ln>
        </p:spPr>
      </p:pic>
      <p:pic>
        <p:nvPicPr>
          <p:cNvPr id="49" name="FUNNY WINTER ACCIDENTS.wmv" descr=""/>
          <p:cNvPicPr/>
          <p:nvPr/>
        </p:nvPicPr>
        <p:blipFill>
          <a:blip r:embed="rId2"/>
          <a:stretch/>
        </p:blipFill>
        <p:spPr>
          <a:xfrm>
            <a:off x="990720" y="1562040"/>
            <a:ext cx="70610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you ON THE B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mmiddleton.WILLIAMSTOWN\AppData\Local\Microsoft\Windows\Temporary Internet Files\Content.IE5\3VD59Z7L\MC900295483[1].wmf"/>
          <p:cNvPicPr/>
          <p:nvPr/>
        </p:nvPicPr>
        <p:blipFill>
          <a:blip r:embed="rId1"/>
          <a:stretch/>
        </p:blipFill>
        <p:spPr>
          <a:xfrm>
            <a:off x="1828800" y="1600200"/>
            <a:ext cx="541008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HETL…. Sec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ntique Olive"/>
              </a:rPr>
              <a:t>Teacher effectively incorporates 21</a:t>
            </a:r>
            <a:r>
              <a:rPr b="1" lang="en-US" sz="3600" spc="-1" strike="noStrike" baseline="30000">
                <a:solidFill>
                  <a:srgbClr val="9900ff"/>
                </a:solidFill>
                <a:latin typeface="Antique Olive"/>
              </a:rPr>
              <a:t>st</a:t>
            </a:r>
            <a:r>
              <a:rPr b="1" lang="en-US" sz="3600" spc="-1" strike="noStrike">
                <a:solidFill>
                  <a:srgbClr val="9900ff"/>
                </a:solidFill>
                <a:latin typeface="Antique Olive"/>
              </a:rPr>
              <a:t> Century Learning Skills that prepare students to meet future challenge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3886200" y="449568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even Strategies of Assessment for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Effective Feedba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Ro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Help students identify where they are now with respect to where they are head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Prompt further learn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mmiddleton\Local Settings\Temporary Internet Files\Content.IE5\WT6R0DUV\MC900014093[1].wmf"/>
          <p:cNvPicPr/>
          <p:nvPr/>
        </p:nvPicPr>
        <p:blipFill>
          <a:blip r:embed="rId1"/>
          <a:stretch/>
        </p:blipFill>
        <p:spPr>
          <a:xfrm>
            <a:off x="7238880" y="914400"/>
            <a:ext cx="15624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What Researchers have to sa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G Omega"/>
              </a:rPr>
              <a:t>Read the comments about the effects of Feedback on Student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G Omega"/>
              </a:rPr>
              <a:t>At your table discuss the characteristics of effective feedback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mmiddleton\Local Settings\Temporary Internet Files\Content.IE5\OP6B0XAN\MC900024471[1].wmf"/>
          <p:cNvPicPr/>
          <p:nvPr/>
        </p:nvPicPr>
        <p:blipFill>
          <a:blip r:embed="rId1"/>
          <a:stretch/>
        </p:blipFill>
        <p:spPr>
          <a:xfrm>
            <a:off x="7053120" y="4800600"/>
            <a:ext cx="2090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entury Gothic"/>
              </a:rPr>
              <a:t>Effective Feedback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Directs attention to intended learning by pointing out strengths and offers specific information f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Limits correctives to what students can act on in a given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Occurs during the 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Addresses partial understa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Does not do the thinking for the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Limits the amount of advice the student can ac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Documents and Settings\mmiddleton\Local Settings\Temporary Internet Files\Content.IE5\OHYZOXIV\MC900198130[1].wmf"/>
          <p:cNvPicPr/>
          <p:nvPr/>
        </p:nvPicPr>
        <p:blipFill>
          <a:blip r:embed="rId1"/>
          <a:stretch/>
        </p:blipFill>
        <p:spPr>
          <a:xfrm>
            <a:off x="7292880" y="3352680"/>
            <a:ext cx="18511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Bodoni MT Black"/>
              </a:rPr>
              <a:t>Effective Feedback or Something El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mmiddleton.WILLIAMSTOWN\AppData\Local\Microsoft\Windows\Temporary Internet Files\Content.IE5\8N4TJ71I\MC900441902[1].wmf"/>
          <p:cNvPicPr/>
          <p:nvPr/>
        </p:nvPicPr>
        <p:blipFill>
          <a:blip r:embed="rId1"/>
          <a:stretch/>
        </p:blipFill>
        <p:spPr>
          <a:xfrm>
            <a:off x="2743200" y="2176560"/>
            <a:ext cx="39625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Share your experience with Effective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you give success feedback to your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ld any of your graded assignments or quizzes be turned into purely feedback ev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ch feedback options will work best in your grade, sub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preparation will your students need to give effective feedback to each oth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have you tried in the classroom?  How did it work?  Successes?  Modification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mmiddleton\Local Settings\Temporary Internet Files\Content.IE5\SDMBGTM7\MC900311804[1].wmf"/>
          <p:cNvPicPr/>
          <p:nvPr/>
        </p:nvPicPr>
        <p:blipFill>
          <a:blip r:embed="rId1"/>
          <a:stretch/>
        </p:blipFill>
        <p:spPr>
          <a:xfrm>
            <a:off x="304920" y="533520"/>
            <a:ext cx="12031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Pulling it together… </a:t>
            </a:r>
            <a:br>
              <a:rPr sz="4400"/>
            </a:b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Claire’s 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ear Learning Tar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es the assessment match the intended lear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there effective feedback to help Claire make improve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ntique Olive"/>
              </a:rPr>
              <a:t>Next Meeting February 14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160" y="19051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Read Pages 95-1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Look at CHETL section 4 (Yes, we are skipping 3)… Star and Triangle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Do some research on 21</a:t>
            </a:r>
            <a:r>
              <a:rPr b="0" lang="en-US" sz="3200" spc="-1" strike="noStrike" baseline="30000">
                <a:solidFill>
                  <a:srgbClr val="6600cc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 century skills either individually or as a group and bring it with you to the next mee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mmiddleton\Local Settings\Temporary Internet Files\Content.IE5\PJ3F998E\MC900326288[1].wmf"/>
          <p:cNvPicPr/>
          <p:nvPr/>
        </p:nvPicPr>
        <p:blipFill>
          <a:blip r:embed="rId1"/>
          <a:stretch/>
        </p:blipFill>
        <p:spPr>
          <a:xfrm>
            <a:off x="304920" y="914400"/>
            <a:ext cx="18255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Lucida Bright"/>
              </a:rPr>
              <a:t>Exit Slip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n the tablet at your table, write down a thought or two about today’s meeting.  What “spoke” to you, what are you thinking, what are future plans, what questions do you still have, etc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lease put on the front table as you lea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ve a great evening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Lighthouse.jpg"/>
          <p:cNvPicPr/>
          <p:nvPr/>
        </p:nvPicPr>
        <p:blipFill>
          <a:blip r:embed="rId1"/>
          <a:stretch/>
        </p:blipFill>
        <p:spPr>
          <a:xfrm>
            <a:off x="6781680" y="2286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Antique"/>
              </a:rPr>
              <a:t>Why Are You Here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To be ready to successfully implement the components of Senate Bil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cc"/>
                </a:solidFill>
                <a:uFillTx/>
                <a:latin typeface="Comic Sans MS"/>
              </a:rPr>
              <a:t>Assessment Time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What are the components of Senate Bill 1?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mmiddleton.WILLIAMSTOWN\AppData\Local\Microsoft\Windows\Temporary Internet Files\Content.IE5\8N4TJ71I\MC900441523[1].wmf"/>
          <p:cNvPicPr/>
          <p:nvPr/>
        </p:nvPicPr>
        <p:blipFill>
          <a:blip r:embed="rId1"/>
          <a:stretch/>
        </p:blipFill>
        <p:spPr>
          <a:xfrm>
            <a:off x="6705720" y="152280"/>
            <a:ext cx="2141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Berlin Sans FB"/>
              </a:rPr>
              <a:t>Components of Senate Bill 1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KCAS: New Standards in English/Language Arts and Math  (Fewer, Clearer, Higher.. For all students to be college/career read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Revised accountability model (Achievement, Gap, Growth, College/Career Readiness, Graduation Rate).  Will receive points Program Reviews, EPAS system, End of Course Assess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Improve effectiveness of teaching and learning (CHET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Balanced Assessment/Assessment Literacy (CAS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#1 priority is STUDENT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mmiddleton\Local Settings\Temporary Internet Files\Content.IE5\WT6R0DUV\MC900442036[1].wmf"/>
          <p:cNvPicPr/>
          <p:nvPr/>
        </p:nvPicPr>
        <p:blipFill>
          <a:blip r:embed="rId1"/>
          <a:stretch/>
        </p:blipFill>
        <p:spPr>
          <a:xfrm>
            <a:off x="152280" y="152280"/>
            <a:ext cx="1857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b Towns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c70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700a"/>
                </a:solidFill>
                <a:latin typeface="Mongolian Baiti"/>
                <a:ea typeface="Mongolian Baiti"/>
              </a:rPr>
              <a:t>Become familiar with and begin incorporating CASL and CHETL information into classroom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c70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700a"/>
                </a:solidFill>
                <a:latin typeface="Mongolian Baiti"/>
                <a:ea typeface="Mongolian Baiti"/>
              </a:rPr>
              <a:t>Copies of KCAS/Draft deconstruction to look over.. Work on this area latter part of school year/early summer.  KDE document is scheduled to be released in May 20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c70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700a"/>
                </a:solidFill>
                <a:latin typeface="Mongolian Baiti"/>
                <a:ea typeface="Mongolian Baiti"/>
              </a:rPr>
              <a:t>Wait for new accountability model (April 2011) to be determined before reviewing all components. Work has begun on program reviews/writing programs, etc.  More to be don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WHS Athletic Logo.jpg"/>
          <p:cNvPicPr/>
          <p:nvPr/>
        </p:nvPicPr>
        <p:blipFill>
          <a:blip r:embed="rId1"/>
          <a:stretch/>
        </p:blipFill>
        <p:spPr>
          <a:xfrm>
            <a:off x="7315200" y="0"/>
            <a:ext cx="1295280" cy="120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WHS Athletic Logo.jpg"/>
          <p:cNvPicPr/>
          <p:nvPr/>
        </p:nvPicPr>
        <p:blipFill>
          <a:blip r:embed="rId2"/>
          <a:stretch/>
        </p:blipFill>
        <p:spPr>
          <a:xfrm>
            <a:off x="533520" y="0"/>
            <a:ext cx="129528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Arial Narrow"/>
              </a:rPr>
              <a:t>Wrap Around Activity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parajita"/>
                <a:ea typeface="Aparajita"/>
              </a:rPr>
              <a:t>On a piece of paper write down three topics/ideas/strategies you have learned/implemented  as a result of our meetings together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Can we add to this list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mmiddleton.WILLIAMSTOWN\AppData\Local\Microsoft\Windows\Temporary Internet Files\Content.IE5\3VD59Z7L\MC900237231[1].wmf"/>
          <p:cNvPicPr/>
          <p:nvPr/>
        </p:nvPicPr>
        <p:blipFill>
          <a:blip r:embed="rId1"/>
          <a:stretch/>
        </p:blipFill>
        <p:spPr>
          <a:xfrm>
            <a:off x="380880" y="228600"/>
            <a:ext cx="19098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Rounded MT Bold"/>
              </a:rPr>
              <a:t>A Word From Our Superintende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Arial Rounded MT Bold"/>
              </a:rPr>
              <a:t>Williamstown’s Vision for the Fu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Skinner.jpg"/>
          <p:cNvPicPr/>
          <p:nvPr/>
        </p:nvPicPr>
        <p:blipFill>
          <a:blip r:embed="rId1"/>
          <a:stretch/>
        </p:blipFill>
        <p:spPr>
          <a:xfrm>
            <a:off x="7639200" y="0"/>
            <a:ext cx="150480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304920" y="259092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Advance Student Achievement.  Help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student be the best they can b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21</a:t>
            </a:r>
            <a:r>
              <a:rPr b="0" lang="en-US" sz="2800" spc="-1" strike="noStrike" baseline="30000">
                <a:solidFill>
                  <a:srgbClr val="cc00ff"/>
                </a:solidFill>
                <a:latin typeface="MS Reference Sans Serif"/>
              </a:rPr>
              <a:t>st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Century Learning:  Innovation Invite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K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.. What is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 Learn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21st Century Examples from Visioning Day.wmv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Rounded MT Bold"/>
              </a:rPr>
              <a:t>A Word From Our Superintende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Arial Rounded MT Bold"/>
              </a:rPr>
              <a:t>Williamstown’s Vision for the Fu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SSkinner.jpg"/>
          <p:cNvPicPr/>
          <p:nvPr/>
        </p:nvPicPr>
        <p:blipFill>
          <a:blip r:embed="rId1"/>
          <a:stretch/>
        </p:blipFill>
        <p:spPr>
          <a:xfrm>
            <a:off x="7639200" y="0"/>
            <a:ext cx="150480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175248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Advance Student Achievement.  Help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student the best they can b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21</a:t>
            </a:r>
            <a:r>
              <a:rPr b="0" lang="en-US" sz="2800" spc="-1" strike="noStrike" baseline="30000">
                <a:solidFill>
                  <a:srgbClr val="cc00ff"/>
                </a:solidFill>
                <a:latin typeface="MS Reference Sans Serif"/>
              </a:rPr>
              <a:t>st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Century Learning:  Innovation Invite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K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Teacher Centered to Student Centered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</a:t>
            </a:r>
            <a:r>
              <a:rPr b="1" lang="en-US" sz="2800" spc="-1" strike="noStrike" u="sng">
                <a:solidFill>
                  <a:srgbClr val="cc00ff"/>
                </a:solidFill>
                <a:uFillTx/>
                <a:latin typeface="MS Reference Sans Serif"/>
              </a:rPr>
              <a:t>BALANCE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(Teacher more of a facilitator rol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at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Energy Bus:  Positive Energy, Team Effort,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                  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Right PEOPLE on the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YOU are so Importan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What Great Teachers Do Differently2.wmv" descr=""/>
          <p:cNvPicPr/>
          <p:nvPr/>
        </p:nvPicPr>
        <p:blipFill>
          <a:blip r:embed="rId1"/>
          <a:stretch/>
        </p:blipFill>
        <p:spPr>
          <a:xfrm>
            <a:off x="1066680" y="154296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3:43:30Z</dcterms:created>
  <dc:creator>mmiddleton</dc:creator>
  <dc:description/>
  <dc:language>en-US</dc:language>
  <cp:lastModifiedBy>mmiddleton</cp:lastModifiedBy>
  <dcterms:modified xsi:type="dcterms:W3CDTF">2011-01-11T15:08:03Z</dcterms:modified>
  <cp:revision>101</cp:revision>
  <dc:subject/>
  <dc:title>Welcome to the Future</dc:title>
</cp:coreProperties>
</file>